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D87-15A5-4DD0-A712-B71A4030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5DC-EC4F-4564-A5E7-826138A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6FE-FDCA-43D5-BAB3-48F47764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2C2-ACB6-4010-97CA-3B6EA5E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1307-526D-47A2-9090-DB574DBB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D8C4-ECCF-45CF-8AA9-4A27857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B529-E050-47AF-8270-1BF245E1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EE78-4C71-41F6-84C6-6F6B07A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560F-2DF7-4E77-AFDF-6940A104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108B-4BD2-48A8-BC2C-C79C307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8203-4FE7-46E0-9B3B-F764EB3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4D2-CEF8-4653-8D28-5B9EAAE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F348-1375-402B-AF50-D9D4581B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5DC-6844-4BB6-8322-4E94A4B3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03A-A830-4388-AB05-47771712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2DF0-2F38-48B8-B658-7A06CD5C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75F-6F62-40A2-B749-F1459205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666-BB33-48F5-AB34-54F95AF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B33-B7FE-4939-97FC-5FC63B93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A94-04A8-4D8D-8DF0-BB51B2E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15B-A109-40BD-911C-D92277D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E5A-7DE5-4A2A-94B5-95C9CCE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FB-0621-410A-ACA1-6633BFA3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08B-29D3-437D-88B1-ECDDC8D2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DE00-F9B6-4823-9236-85E12F3833F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9F47-CFD7-4B55-ADF0-F7E6ED831AD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” -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a C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0-27T00:55:16Z</dcterms:modified>
  <cp:revision>13</cp:revision>
  <dc:subject/>
  <dc:title>Cobrança pelo uso das águas</dc:title>
</cp:coreProperties>
</file>